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2.jpeg" ContentType="image/jpeg"/>
  <Override PartName="/ppt/media/image30.png" ContentType="image/png"/>
  <Override PartName="/ppt/media/image29.jpeg" ContentType="image/jpeg"/>
  <Override PartName="/ppt/media/image35.png" ContentType="image/png"/>
  <Override PartName="/ppt/media/image5.png" ContentType="image/png"/>
  <Override PartName="/ppt/media/image33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D4E-A6BF-4CD5-B56B-0EFD72E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ED4-CCFE-4AE9-A42D-16A8A8C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AB8-D18C-4B29-B75D-6AA2257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F5F-1374-4EDD-8A5A-A032A546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E5BB-DCCA-4E17-B215-B39C7C5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9BA-5EC7-453F-B2A5-3684A42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0C4A-DEBF-4DEF-84CA-A96FBF09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D996-84E6-4B6C-9422-6A4C099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281-577B-4A03-B82C-D4B0643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AFC-9877-47D5-9996-FBF751E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7348-4E92-4278-9FF1-3EB80EA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389-8CF1-4B97-8782-F1E33FCC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FD7F-D389-485E-AA11-01FA7FC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D29F-5E7A-4CA9-93D0-0EFC4D3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20D-94BF-4563-8989-ADA6DB6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4AB1-85A3-4243-A052-B8DCCAAA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32E0-4929-4DF2-9350-671AB3E8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03B-0460-41D6-A07E-E40BE13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4F0-6A86-42FC-9DEB-CD7C5D7B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A57-1145-49A9-9EFC-01E4CFB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323-6C2D-46F6-AD51-BC879DC8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863-6C07-4C0C-8FDE-99EE751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26D-2B4A-4328-88C5-9A016F1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25E-76F7-4CBC-8918-6D7E3D6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33B5-6A91-4E99-9753-BE250CE2CB6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50B0-6F26-4084-B35F-EF9290C6324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1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pter 5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Physical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Fix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pecialized anaerobic bacteria convert gaseous nitrogen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to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or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soil it is done by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Rhizobium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which are stored in nodules in legu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water it is done by cyanobacteria with special cells called heterocys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conversion of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or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 to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erobic bacteria convert to nitrite  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ions which are toxic to plan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converts to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which the plants can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imi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lant roots absorb inorganic ammonia, ammonium ions and nitrate ions formed by nitrogen fixation and nitrification and make nitrogen containing organic molecul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NA, amino acids and protei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imals then eat these plants and consume needed nitrog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mmon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rganisms produce nitrogen waste (urea, uric acid and decomposed remain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cteria convert this waste back into inorganic nitrogen (ammonia and ammonium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now go through nitrification and assimilation ag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nitr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ually happens in swamps or bogs (anaerobic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version of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back into nitri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ions, then into nitrogen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nitrous oxide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) and released into the atmosphere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uman impac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mission of nitric oxide (NO) when burning fue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rms NO</a:t>
            </a:r>
            <a:r>
              <a:rPr b="0" lang="en-US" sz="24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nd reacts with water to form nitric acid (HNO</a:t>
            </a:r>
            <a:r>
              <a:rPr b="0" lang="en-US" sz="24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– acid rai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 in atmosphere from fertilizer via bacter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reen house gas and ozone deple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move nitrogen from earth’s crust and topsoi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d excess nitrogen to aquatic systems from agricultural runoff and sewag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cess nitrogen in soil causes “weedy” plants to grow (decreasing biodiversity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sphorus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ycles through living organisms, water and earth’s crust (not atmosphe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ust – Phosphate salts (PO</a:t>
            </a:r>
            <a:r>
              <a:rPr b="0" lang="en-US" sz="28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ahoma"/>
              </a:rPr>
              <a:t>-3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 in ocean sediments weath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lants – Take up phosphates from soi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imals – Take in phosphates by eating pla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imal waste and decay returns phosphorus to soil (streams and ocea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ano returns nitrate and phosphate back to the so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lfur Cyc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st sulfur is stored in sedimentary rock and is released through ero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Atmosphere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1" lang="en-US" sz="2000" spc="-1" strike="noStrike" baseline="30000">
                <a:solidFill>
                  <a:srgbClr val="545472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a spray, forest fires, dust storm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H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Volcano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Burning of fossil fuels (produces acid rai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Living organisms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lants absorb sulfate from soil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nimals assimilate sulfur from plants and return sulfur to soil  and water through was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cean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arine algae release DMS into the atmosphere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et and dry deposition of sulfur back into the ocea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Bacteria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nvert sulfates back into to hydrogen sulfate gas or metallic sulfid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an perform photosynthesis using sulfur in extreme environment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 imp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rning of fossil fuels causes acid r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lfur in fossil fuels mixes with atmospheric oxygen to form SOx gases which mix with water to form sulfuric aci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crubbers are decreasing sulfur release from smoke stac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ning of sulfu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ogeochemical Cyc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nergy flows – open syst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tter cycles – closed syst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servation of mat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tter can be neither destroyed nor crea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can be transferred and it can leave the ecosyst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ydrologic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water is stored in the oce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Evapo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streams, rivers, lakes, soil, oce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ranspi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veget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Condens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n clou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recipit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n land and wa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Runoff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filt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f water in soil into eithe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groundwa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urface wa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7010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ar Radi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ithout sun – absolute z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n drives the water cycle, food web, carbon cycle, wea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bed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reflectance off of the Earth’s surfa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igh – Ice sheets, glaciers (80-90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w – Pavement, buildings (10-20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eans and forests (5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asons – Tempera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62940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6629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ers of the atmosp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47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mosphe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oposp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(10km/6.2miles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78% Nitr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1% Oxy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% Arg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.036% Carbon Diox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ssure decreases with altit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mperature decreases with altitude until it reaches the tropopause (zone between troposphere and stratosphere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" descr="AtmosGraph.gif (6392 bytes)"/>
          <p:cNvPicPr/>
          <p:nvPr/>
        </p:nvPicPr>
        <p:blipFill>
          <a:blip r:embed="rId9"/>
          <a:stretch/>
        </p:blipFill>
        <p:spPr>
          <a:xfrm>
            <a:off x="6553080" y="1828800"/>
            <a:ext cx="23353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tratosp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(10-24km/6.2-28mile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composition to troposphere, but less mat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ch less water (1000x l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ch more ozone (1000x mo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mperature rises with altitude until stratopa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ssure decreases with altit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bo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71089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s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45-80km/28-5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erature decreases with altitud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dest in atmo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rm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80-500km/50-31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erature increases with altitud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x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500km/31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verges with interplanetary spa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fferential Heating of the Earth’s Su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03240" y="2819520"/>
            <a:ext cx="3745080" cy="319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76920" y="236232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20760" y="533520"/>
            <a:ext cx="8823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ir Density Causes Atmospheric Circ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6104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the Earth did not rotate there would be a single cell in each hemi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33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riolis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  <a:ea typeface="Arial"/>
              </a:rPr>
              <a:t>The effect of a rotating planet of the molecules in the atmosphere (clouds and weather are good examples). There is a push to the right in the Northern Hemisphere and to the left in the souther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ote: Earth rotates from west to east</a:t>
            </a: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13000" y="320040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ttp://www.youtube.com/watch?v=_36MiCUS1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6400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the Coriolis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4394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tmospher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.036% Carb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 la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ored in all living organis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wat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ssolved in water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rgest storage is in sedimentary rocks such as limestone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largest storage in oc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jor Wind Be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934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d Be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olar easterli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Blow from the NE near the North Pole  or from SE near the South Po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sterli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Blow in mid-latitudes from the SE in northern hemisphere or from the NW is the southern hemi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de Wind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From NE in the northern hemisphere or from the SE in the southern hemi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tterns of Circulation in the Oce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urr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Movements of surface ocean wa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yr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Wind belt that causes circular ocean curr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ock-wise in the northern hemisphere because of trade winds and westerl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nter clock-wise is the southern hemi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rface Ocean Curr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Surface drifts and currents of the ocean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cean Conveyor Belt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2" name="" descr="conveyor2.GIF (6924 bytes)"/>
          <p:cNvPicPr/>
          <p:nvPr/>
        </p:nvPicPr>
        <p:blipFill>
          <a:blip r:embed="rId2"/>
          <a:stretch/>
        </p:blipFill>
        <p:spPr>
          <a:xfrm>
            <a:off x="838080" y="1905120"/>
            <a:ext cx="723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Nino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l-Nino Southern Oscillation (ENSO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iodic (3-7yrs) warming of surface waters of the tropical East Pacific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de winds weaken and warm water expands eastward towards South Americ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reases surface temperatures 3-4 degre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Upwelling</a:t>
            </a:r>
            <a:br>
              <a:rPr sz="4000"/>
            </a:b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109960" y="0"/>
            <a:ext cx="54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ducers tak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rom atmosphere and convert it to organic molecules such as C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ducers then release some through respiration or decomposi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omposition on land produces fossil fue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olcanic eruptions free carbon deep in earth’s crus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bustion releases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nto the atmo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ter Effects of El Ni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9" name="" descr="scientific data of el nino"/>
          <p:cNvPicPr/>
          <p:nvPr/>
        </p:nvPicPr>
        <p:blipFill>
          <a:blip r:embed="rId2"/>
          <a:stretch/>
        </p:blipFill>
        <p:spPr>
          <a:xfrm>
            <a:off x="1066680" y="1981080"/>
            <a:ext cx="723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11520" y="1752480"/>
            <a:ext cx="4632480" cy="5105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514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9072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Wikipedia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N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rface waters are cooler than usual because trade winds are strong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ccur after El Nino ev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predictable weather effec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things happen in the ocea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ssolved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 reacts with seawater to produc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and H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se ions can react with Ca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o produce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n builds limestone bed under ocean flo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 temperature increases mor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rom water is releas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crease of Carbon Dioxide in Atmosp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8" name="" descr="{short description of image}"/>
          <p:cNvPicPr/>
          <p:nvPr/>
        </p:nvPicPr>
        <p:blipFill>
          <a:blip r:embed="rId2"/>
          <a:stretch/>
        </p:blipFill>
        <p:spPr>
          <a:xfrm>
            <a:off x="1219320" y="1981080"/>
            <a:ext cx="73911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be in many forms in the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78% of the atmosphere is made up of nitrogen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not absorbed by plants or anima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2:40:35Z</dcterms:created>
  <dc:creator>Pace Academy</dc:creator>
  <dc:description/>
  <dc:language>en-US</dc:language>
  <cp:lastModifiedBy>Jonathan Day</cp:lastModifiedBy>
  <cp:lastPrinted>2003-10-16T12:01:41Z</cp:lastPrinted>
  <dcterms:modified xsi:type="dcterms:W3CDTF">2008-08-12T19:50:28Z</dcterms:modified>
  <cp:revision>28</cp:revision>
  <dc:subject/>
  <dc:title>Chapter 6 </dc:title>
</cp:coreProperties>
</file>